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1BC-7C99-495B-B073-0FBDC289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6E9-D749-4595-9386-4F3980D0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98A-558A-404D-AA29-28DC2020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647-6576-409F-A9CF-33937736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BB61-EC7C-4AB9-89A6-13F8DC68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5484-8B75-416E-9344-8067AEF8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D6D0-2193-4006-8B83-2EC44868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A123-73FE-4489-9AD9-DBA16E22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D644-2409-422A-8C1D-20186E6F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AABA-B012-48E1-87A3-F6A9106B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CA57-9A89-4F93-9348-1E9A3CB3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130-3B98-41F3-830B-D92BAA93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1D70-3E4E-407F-8A73-D2475A7B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DADC-005C-4FA3-A143-A25B1A3F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645E-2D58-4223-82C6-A4690982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84D9-DA07-4B60-AA37-3149F402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6ABD-5001-4A5A-B52D-E68A25FB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2E1-4253-4E2F-B4A4-4F72D0A7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E1FA-BCD8-40BF-BF4C-D6140D56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A37-BF71-41BD-BEB8-9FF8EF30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D44-D36D-4043-838E-D5D68B9B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EB4-4BAC-44C1-B15E-6B756DA7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D8C-1227-4A1D-BBBF-258471B9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138-3DC0-4D56-9DB5-D2DD9936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31AC-ED65-4201-B452-F51A78A931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52A2-B3B7-44F0-B88A-7AA9E339365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поненттері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508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96-97 б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806436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7440" y="0"/>
            <a:ext cx="506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4400" spc="-1" strike="noStrike">
                <a:solidFill>
                  <a:srgbClr val="660066"/>
                </a:solidFill>
                <a:latin typeface="Comic Sans MS"/>
              </a:rPr>
              <a:t>Негізгі қасиетте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907920"/>
            <a:ext cx="0" cy="595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60720" y="7650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4800" y="6922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1484280"/>
            <a:ext cx="18003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232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84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ске қосылуын орн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02392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үрін өзгерту   (0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600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рет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6840720" cy="3170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3589200"/>
            <a:ext cx="38163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43640" cy="40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990960" cy="60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4365720"/>
            <a:ext cx="482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уыстырғыштың іске қосылу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н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als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ауыстырғыштың ажыратылу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5000" cy="352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118040" cy="652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4076640"/>
            <a:ext cx="36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алауша орнатылма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жалауша орнатыл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 – белгісіз к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16360" cy="3467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082760" cy="5327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4221000"/>
            <a:ext cx="34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 – кәдімгі тү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батырма секілді өзгер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6870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ішінде(формада) орнатылған ауыстырғыштар мен жалаушалар арқылы мәтіннің (текстің) жазылу үлгілерін орнататын қосымша жаса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5596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1163520"/>
            <a:ext cx="4680000" cy="5607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   Times New Roman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ыз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Жас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Кө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1341360"/>
            <a:ext cx="3816360" cy="289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ck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л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Check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ур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xtBo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а Әә Бб Вв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32115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4003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5011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1700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41708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76360" y="1125360"/>
            <a:ext cx="6400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8000" y="0"/>
            <a:ext cx="532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3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4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95640" y="0"/>
            <a:ext cx="554508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Text1_GotFoc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1.Value = Checked Then Text1.FontBold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Bold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2.Value = Checked Then Text1.FontItalic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Italic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Үйге тапсыр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6-97 бетт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832720" cy="380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756720" y="1197000"/>
            <a:ext cx="646200" cy="26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197000"/>
            <a:ext cx="93636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5080" y="40464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320" y="3333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2852280"/>
            <a:ext cx="215928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73360"/>
            <a:ext cx="237636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Ауыстырып қосқы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5280" cy="201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521080" cy="188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26920" y="429264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әліметтер топтамасы ішінен тек бір вариантын ғана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9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852640"/>
            <a:ext cx="1224000" cy="1081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 Жалауш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1441440" cy="1513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482436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4365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птамалар ішінен бір немесе бірнеше вариант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4:46Z</dcterms:created>
  <dc:creator>Камила</dc:creator>
  <dc:description/>
  <dc:language>en-US</dc:language>
  <cp:lastModifiedBy>Камила</cp:lastModifiedBy>
  <dcterms:modified xsi:type="dcterms:W3CDTF">2010-12-31T17:26:29Z</dcterms:modified>
  <cp:revision>30</cp:revision>
  <dc:subject/>
  <dc:title>OptionButton Ауыстырып ќосќыш,  CheckBox Жалауша </dc:title>
</cp:coreProperties>
</file>